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19C-9DD6-476D-B9CD-D34DCE65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68A-6F4F-413F-8424-A31D3E6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2FA-EBBE-43E8-990F-F2F42806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EC9-F91C-43BC-AF27-A8B6D992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319-B0F5-4402-9173-D3C998C4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629-E48F-4C7A-9A73-6A02871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15F-EC0E-44EC-B01B-9B4D2FF2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D7C-5E85-4E73-965E-EE64A3D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330-AFF6-4214-AF00-1335DD80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BDB-660B-458E-B0B0-3F630AA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DC4-5538-43E2-99DE-79F60E88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42B-F1F1-455A-982C-1D8DEE01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6D1C-60A9-40AD-9F9A-0F3E564B8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create a PowerPoint presentation using clipart and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raining for teachers to learn how to  navigate PowerPoint including use of all appropriate tools and resources for online cli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reate a mock PowerPoint presentation with skills specific to their grad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availability for classroom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rojecto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or Large TV pe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connection to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proposal to various businesses and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ra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1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/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present PowerPoint presentation to classmates/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leve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6:40:58Z</dcterms:created>
  <dc:creator>User</dc:creator>
  <dc:description/>
  <dc:language>en-US</dc:language>
  <cp:lastModifiedBy>User</cp:lastModifiedBy>
  <dcterms:modified xsi:type="dcterms:W3CDTF">2008-08-04T16:56:43Z</dcterms:modified>
  <cp:revision>3</cp:revision>
  <dc:subject/>
  <dc:title>Curriculum Goal</dc:title>
</cp:coreProperties>
</file>